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6.gif" ContentType="image/gif"/>
  <Override PartName="/ppt/media/image9.png" ContentType="image/png"/>
  <Override PartName="/ppt/media/image12.jpeg" ContentType="image/jpe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D6C-7BD1-4898-9221-FDD05BB5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43B-D5A1-4CDE-AF44-B5C7FD4F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DCC6D-5AE8-4210-A76C-6D2391A2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1F186-1EFC-4B5C-BFA4-B8CEBE50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E9EB0-E4A2-4FDA-ACC6-A3A5F13B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3B422-274F-4FBD-9C7E-106F6134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9B5C1-F0A1-453B-AB00-EAB900F5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BFEAF-C63B-46F5-8D43-77BEE230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C5ED5-1273-468D-97BE-9E4C841C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5C076-5456-499D-8FA4-56E74FA4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29D11-4BAE-4C21-B27F-BB39C41E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51382-D00A-4B39-8A7D-16A5FA32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DFC-A645-48E2-A1A2-A2147129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9E7D3-A12F-4ED0-9BD2-9C38B6FF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D9D59-6EED-47D9-9D52-B8F0993D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20010-EFC8-4C67-B88D-D2BF9E37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A4E7D-FAB0-471E-AABD-89A4C402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A4C1E-F8C8-4F34-85E2-F98D77E8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0882C-5968-4943-BAE7-272F3D9B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084DC-D56F-46D1-8067-45A2266C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0B276-D15F-4F8E-8E2C-EA01ED52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9A4DD-162E-4603-A654-748E3EA4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464C2-256E-4AA0-8187-BBCC428E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6A3-CEEB-430F-86F3-C448CBD0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69E19-0F96-41C6-86B9-23DB8B86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A4687-7BFE-4419-AA4F-5CF8D05D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AB8A7-582D-43DD-8B7E-87B7322B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955B8-223E-4763-9F55-6B84C57E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82993-CAE0-49B9-BF0B-9816C8F5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2488B-3ED1-410F-9B0F-AC25CFFF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8757F-1FFE-4696-A772-35F30264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E3AE7-9929-45A1-88F5-A2A12892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3F9B5-B9E0-4634-A972-48A3AB8F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AD64B-D1FA-4F74-A955-6E2F240A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4B13-D250-4694-8C65-71DDBC05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B91D6-B08D-471D-AEA9-A8522A0B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BC5A8-FC4E-4A72-BC7D-9E8D2378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FE4D5-C945-414A-9C70-A42265DB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EDB6B-BD39-4FA8-B0AB-1EE7402D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8D923-98C3-435D-B527-52A9030D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7143E-72B2-4D4C-AB05-4D9804C8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F65F6-BE67-4E1F-A058-1104F6D4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AFECE-4D29-46ED-90A9-6B612A8C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A0159-5F26-4D25-8152-20432FA3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06B3E-85AF-455C-AC38-72E0254A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AE9D-2F5F-4DED-863C-91E4085D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D6DBC-41A4-4249-A84E-76388293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4A45D-EFD3-41F7-898C-ABD8F6F6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4FFAC-C85C-4B9F-8737-7E202930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15737-551C-4CDE-9D11-775A4D50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800B8-542A-4452-A00A-362A4A48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039B-681D-4333-9684-502563BD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E570-C3F8-4F1C-B7CA-F892D4C2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D24F-2DB2-4407-A37D-820D8BC5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982C-7B3C-4946-9C79-F6923422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0F12-F8E2-406C-9402-32DF0955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90A-50E0-4ECC-A93D-C0E62F81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6AFF-2ED6-498B-A52A-D630CFFC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5833-9B2C-4D7D-ABC2-2FB09B42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CA07-EC70-44DD-B441-59D59075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C34F-1394-4578-81EB-C2E3C0BA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A4C0-C654-412B-AAE6-A894AE7A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75518-51E4-4892-9E68-926AB70E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EDBA2-61C4-40BB-95D4-5A21E3A5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EC79D-9B65-4A2B-B1B2-D6006D8C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1FD8B-25BB-403E-8710-FE580483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DCA9-9DE9-43D0-A8A5-0207C580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080-4C4D-450E-B419-2FB2DA7E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3987C-7311-4A95-B287-2D67CD49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114F8-6B9F-405D-91D2-FCB964A2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BD95E-E99D-453D-9DAB-800F8BFF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4CE0C-5702-44CD-B65F-2ABBDBDE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F0A3-EC15-4435-BF88-E4015F47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52371-3A25-4EBE-AF4E-F2EEFDDD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D162-45D2-418C-8813-12894EC0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5DB18-DF8C-4995-9170-661C31EF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08427-794C-4D42-8503-210C5D6A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CA222-CCBE-4FAD-99BB-577ABBFE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F00-3D1E-4CB0-8AEE-9BC05ABE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E7F23-4CCF-4A1C-A2F0-EC9A02D5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5E97F-5D7E-467D-AE22-72B54179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CD0AF-9310-48EE-902D-B893BB34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F55A4-B79C-4EE4-8642-BE12BC42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D8898-61F6-4593-B4A6-BCE940FA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6C35F-151A-4EC2-99D5-90ADFFDB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11029-23D0-4DD4-82E3-1AA8D1C3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3BD1E-679E-48F1-88C4-01378483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CF0CE-378F-4C7B-8979-5D2939B3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1BF7D-846D-4544-A6DA-58438827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BB1-F804-40D6-BD1C-09DA61D0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E4C28-EC99-4128-B63A-7F88CDF8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65A31-542E-4A8F-AE47-E60384C1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38F54-E997-43F0-8399-9E836CB8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84DD8-4D78-476B-8A09-1A31AC09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8FFA7-37A9-4544-8CA8-FAE3AAF1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9E178-378E-403E-B9DB-7DFBB6DD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77B51-2224-4806-A1AC-647CFBBA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FDD58-CEBF-4C31-9F95-E1341406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8083D-3458-4892-B720-125FCD2E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B5392-C0AB-4668-8899-3DBADEEE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FF6-9D6F-42E8-8C4F-1F062776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775B3-22F4-40AD-B6C9-B7A7CAD5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40693-F26F-415C-ABBD-3E34CF32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AC2FE-6C5A-4AA9-82D5-37955B59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C04D3-25E4-4EAD-8BD3-2EB8C3BD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BCECC-C975-4427-9F7F-79E1A1C1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35321-2F20-4745-A0B2-0FEF1023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B670E-9FDA-4B94-AA78-4610A10A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65D60-1B32-4957-9B38-E8DBCB05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A13AE-0ACF-4207-9696-F63A2850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06EEA-BAB0-4546-9F0E-44F3752A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030-376A-40EA-BC33-3071DF24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C5579-AAFE-4DD9-9307-4F551130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4BDF3-BCBA-4AC7-97CA-6121BA28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50FD5-F464-4880-9637-C9029BE6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61087-659A-46FE-8DB9-B93A6A97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7FEE1-C58F-44C7-A312-BB0F2CFB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8FDC1-4CDD-4ACF-A0D0-4A1DF324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3C167-CEB0-43B5-837F-BD81D443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B636A-939C-4E75-8376-1EB08C46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08374-3CAB-430B-B89D-EE076EBB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D0319-395B-4BC8-8D1B-6CEAB754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555-34EC-4A0D-85E7-14CEA21A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23DFC-9BF0-45DB-9D4D-72D2E1B7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9D73B-9089-46C6-A729-C35A511D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49100-26DA-44F3-B5BA-8B263EB1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71806-8EEF-4EBB-BA5F-D0065FC5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0F5B9-FD4D-4F72-A595-7B40A708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F23E7-7665-4E26-B2E1-E3D5C73E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1984D-EB77-4FC0-8A59-38A84394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10AA6-1C39-4873-B05E-EEB6E193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778F9-033B-45B0-B466-1769CDF4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D216A-71C1-4886-A518-6A67119A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BCC-E224-4A05-A3DC-89D4A014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993D4-B1DC-48C8-AF7F-F297E9E9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6EA88-5E29-40D9-A6C0-28AA61C3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835C5-9156-46F0-96EC-B8148596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51057-3205-4B4C-8546-010904AD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DA39B-5280-4546-B220-6E81D9AA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B0768-D644-4360-892E-963674AF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012BD-3A01-43FD-90E7-97010893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272E5-81BE-420A-8FC9-8AA3A378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9202E-1DDE-46E9-89F5-30EF4859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368B8-8294-41C4-854D-2DA4432C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B5F1-E6D0-4049-B5F6-7E53F7438C6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AF8C-CC68-4355-9564-A6105C1E07A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E791-27BB-41B0-8E31-B87E83A726C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69EA-4B68-4C67-A28F-E9D7B4025A6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80CA-6584-4903-97CA-0FA62AC0F6E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281C-B1C6-4F75-BAB2-EE7611C1696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7C30-EEE3-431D-887E-FE34D526172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B544-803A-490A-8539-A6A9F6FFE18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591D-91C5-43F3-AAE6-3A7FB6657FB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C21D-B831-4E40-8039-F86411B7D37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58E4-F3B6-4EBF-8472-0CEF4DF40D0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B93F-83C9-40C2-9910-1F87FF4BE5A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jpe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5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omjena unutarnje energije radom i toplin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258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5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178920" y="347760"/>
            <a:ext cx="842508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Razmislite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Opišite s pomoću čestično-kinetičke teorije promjenu unutarnje energije tijela zagrijavanj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kušajte objasniti kako se, zbog gibanja čestica, hladnije tijelo zagrijava pri dodiru s topliji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U dvjema je posudama po 1 kg vode sobne temperature. Voda u posudi A zagrije se do 60</a:t>
            </a:r>
            <a:r>
              <a:rPr b="0" lang="hr-HR" sz="3000" spc="-1" strike="noStrike" baseline="30000">
                <a:solidFill>
                  <a:srgbClr val="000000"/>
                </a:solidFill>
                <a:latin typeface="Calibri"/>
              </a:rPr>
              <a:t> o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, a u posudi B do 40</a:t>
            </a:r>
            <a:r>
              <a:rPr b="0" lang="hr-HR" sz="3000" spc="-1" strike="noStrike" baseline="30000">
                <a:solidFill>
                  <a:srgbClr val="000000"/>
                </a:solidFill>
                <a:latin typeface="Calibri"/>
              </a:rPr>
              <a:t> o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. U kojoj se posudi više promjeni unutarnja energija vod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31" name="Slika 1" descr=""/>
          <p:cNvPicPr/>
          <p:nvPr/>
        </p:nvPicPr>
        <p:blipFill>
          <a:blip r:embed="rId4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se zagriju kočnice bicikla, ako dulje kočimo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se gumica za brisanje zagrije tijekom brisanj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što se automobilske gume zapale tijekom „driftanja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što osjetimo toplinu kada trljamo dlan o dl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24000" y="9810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olovna pločica i ček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dogodilo s pločicom i čekić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jećate li promjenu njihovih temperatu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e su se pretvorbe energije pritom dogodile? Opiš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3" descr="SnapShot(604).jpg"/>
          <p:cNvPicPr/>
          <p:nvPr/>
        </p:nvPicPr>
        <p:blipFill>
          <a:blip r:embed="rId5"/>
          <a:stretch/>
        </p:blipFill>
        <p:spPr>
          <a:xfrm>
            <a:off x="5572080" y="1670040"/>
            <a:ext cx="2706840" cy="4462560"/>
          </a:xfrm>
          <a:prstGeom prst="rect">
            <a:avLst/>
          </a:prstGeom>
          <a:ln w="0">
            <a:noFill/>
          </a:ln>
        </p:spPr>
      </p:pic>
      <p:pic>
        <p:nvPicPr>
          <p:cNvPr id="510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125360"/>
            <a:ext cx="5410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pumpa za zračnice bicik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te osjetili na prstu? Kako to objasni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što se pretvorila  kinetička energija klipa koji se zaustavi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pritom dogodilo s česticama zraka zbijenima pri dnu pump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3" name="Slika 1" descr=""/>
          <p:cNvPicPr/>
          <p:nvPr/>
        </p:nvPicPr>
        <p:blipFill>
          <a:blip r:embed="rId7"/>
          <a:stretch/>
        </p:blipFill>
        <p:spPr>
          <a:xfrm>
            <a:off x="6181560" y="1673280"/>
            <a:ext cx="257184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691240" cy="2697120"/>
          </a:xfrm>
          <a:prstGeom prst="rect">
            <a:avLst/>
          </a:prstGeom>
          <a:ln w="0">
            <a:noFill/>
          </a:ln>
        </p:spPr>
      </p:pic>
      <p:pic>
        <p:nvPicPr>
          <p:cNvPr id="515" name="Slika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SnapShot(608).jpg"/>
          <p:cNvPicPr/>
          <p:nvPr/>
        </p:nvPicPr>
        <p:blipFill>
          <a:blip r:embed="rId1"/>
          <a:stretch/>
        </p:blipFill>
        <p:spPr>
          <a:xfrm>
            <a:off x="5435640" y="1700280"/>
            <a:ext cx="3727440" cy="25718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179280" y="1341360"/>
            <a:ext cx="77155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rastežemo ba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te osjetili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se balon zagrija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Slika 3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19" name="Pravokutnik 2"/>
          <p:cNvSpPr/>
          <p:nvPr/>
        </p:nvSpPr>
        <p:spPr>
          <a:xfrm>
            <a:off x="179280" y="50958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jelu možete  promijeniti unutarnju energiju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adom neke vanjske s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Slika 1" descr=""/>
          <p:cNvPicPr/>
          <p:nvPr/>
        </p:nvPicPr>
        <p:blipFill>
          <a:blip r:embed="rId1"/>
          <a:stretch/>
        </p:blipFill>
        <p:spPr>
          <a:xfrm>
            <a:off x="5211720" y="3408480"/>
            <a:ext cx="3714840" cy="29001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107640" y="1165320"/>
            <a:ext cx="82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plinom mijenjamo unutarnju energiju tij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na otvor staklene bočice stavite novčić tako da ga pokrije. Natrljajte ruke pa njima obujmite boc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pažate li da novčić poskaku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jasnite 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Slika 3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ože li unutarnja energija obaviti r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grijemo tikvicu s čep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očekujete da će se dogodi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3" descr="SnapShot(607).jpg"/>
          <p:cNvPicPr/>
          <p:nvPr/>
        </p:nvPicPr>
        <p:blipFill>
          <a:blip r:embed="rId7"/>
          <a:stretch/>
        </p:blipFill>
        <p:spPr>
          <a:xfrm>
            <a:off x="4859280" y="4076640"/>
            <a:ext cx="3429000" cy="19288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SnapShot(606).jpg"/>
          <p:cNvPicPr/>
          <p:nvPr/>
        </p:nvPicPr>
        <p:blipFill>
          <a:blip r:embed="rId8"/>
          <a:stretch/>
        </p:blipFill>
        <p:spPr>
          <a:xfrm>
            <a:off x="4859280" y="1433520"/>
            <a:ext cx="3429000" cy="1928880"/>
          </a:xfrm>
          <a:prstGeom prst="rect">
            <a:avLst/>
          </a:prstGeom>
          <a:ln w="0">
            <a:noFill/>
          </a:ln>
        </p:spPr>
      </p:pic>
      <p:pic>
        <p:nvPicPr>
          <p:cNvPr id="526" name="Slika 3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nutarnja se energija može pretvarati u rad samo pri prelasku topline s toplijeg na hladnije tijelo. Pritom se samo dio topline može pretvoriti u rad, a ostatak je otpadna topl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06:30:12Z</dcterms:created>
  <dc:creator>Mladen Vidović</dc:creator>
  <dc:description/>
  <dc:language>en-US</dc:language>
  <cp:lastModifiedBy>MArina Dumančić</cp:lastModifiedBy>
  <dcterms:modified xsi:type="dcterms:W3CDTF">2019-09-13T18:39:05Z</dcterms:modified>
  <cp:revision>21</cp:revision>
  <dc:subject/>
  <dc:title>Mjerenje topline</dc:title>
</cp:coreProperties>
</file>